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arrow.wav" ContentType="audio/x-wav"/>
  <Override PartName="/ppt/media/breez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907588" cy="6858000"/>
  <p:notesSz cx="6732588" cy="9864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32000" cy="986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38320" cy="484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17440" y="-360"/>
            <a:ext cx="2938680" cy="484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655560" y="726840"/>
            <a:ext cx="537696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880560" y="4695840"/>
            <a:ext cx="4921560" cy="44546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0" y="9388080"/>
            <a:ext cx="2938320" cy="4856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17440" y="9388080"/>
            <a:ext cx="2938680" cy="4856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DBFAEE6-8AFD-4558-85B2-9D6E28242DC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17800" y="9388440"/>
            <a:ext cx="29386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EB3F9123-9C17-4DAC-8128-CD963E4177DF}" type="slidenum">
              <a:rPr b="1" lang="en-US" sz="12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655560" y="727200"/>
            <a:ext cx="5376960" cy="37242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880560" y="4695840"/>
            <a:ext cx="49215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FC062-2831-4E1A-A7CF-57601913D3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1480" y="47520"/>
            <a:ext cx="864720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3939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000" y="37580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77FE1-669F-4FAE-A32A-6129FBC1FF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1480" y="47520"/>
            <a:ext cx="864720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13939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3400" y="13939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000" y="3758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63400" y="3758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12925-1C39-4117-9F36-B3D0F36EE8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1480" y="47520"/>
            <a:ext cx="864720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3939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09640" y="13939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3939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000" y="37580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09640" y="37580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37580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A3C6C-D1F0-4275-BDF5-982535D569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7520"/>
            <a:ext cx="864720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95000" y="13939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7520"/>
            <a:ext cx="864720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5000" y="13939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7520"/>
            <a:ext cx="864720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000" y="13939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63400" y="13939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7520"/>
            <a:ext cx="864720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7520"/>
            <a:ext cx="86472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7520"/>
            <a:ext cx="864720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3939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400" y="13939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5000" y="3758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1480" y="47520"/>
            <a:ext cx="864720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5000" y="13939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43817-14C3-4808-8CF8-93E9401881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7520"/>
            <a:ext cx="864720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000" y="13939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3400" y="13939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63400" y="3758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7520"/>
            <a:ext cx="864720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3939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3400" y="13939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5000" y="37580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7520"/>
            <a:ext cx="864720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3939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5000" y="37580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7520"/>
            <a:ext cx="864720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000" y="13939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63400" y="13939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5000" y="3758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63400" y="3758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7520"/>
            <a:ext cx="864720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3939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09640" y="13939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4280" y="13939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000" y="37580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09640" y="37580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4280" y="37580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1480" y="47520"/>
            <a:ext cx="864720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000" y="13939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3FAEE-88C6-4812-AE11-800A37DB84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1480" y="47520"/>
            <a:ext cx="864720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3939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3400" y="13939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E6633-1049-4269-AC22-4DA2DA2168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1480" y="47520"/>
            <a:ext cx="864720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3140F-F8ED-481E-BC60-FD0663FC12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01480" y="47520"/>
            <a:ext cx="86472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0C45E-B5FC-4CBE-90F8-A7407E21E6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1480" y="47520"/>
            <a:ext cx="864720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3939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3400" y="13939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000" y="3758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1D216-54C3-4F00-8488-38BF375B18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1480" y="47520"/>
            <a:ext cx="864720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000" y="13939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3400" y="13939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63400" y="3758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EF84C-AD76-49F8-A574-DF8F95C2C3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1480" y="47520"/>
            <a:ext cx="864720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3939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3939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37580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57B63-8AFC-455F-AF98-2188B7E33F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"/>
          <p:cNvSpPr/>
          <p:nvPr/>
        </p:nvSpPr>
        <p:spPr>
          <a:xfrm>
            <a:off x="0" y="0"/>
            <a:ext cx="9906120" cy="971640"/>
          </a:xfrm>
          <a:prstGeom prst="rect">
            <a:avLst/>
          </a:prstGeom>
          <a:solidFill>
            <a:srgbClr val="ee1b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1480" y="47520"/>
            <a:ext cx="864720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5000" y="13939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ee1b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ee1b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ee1b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ee1b2e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ee1b2e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7" descr=""/>
          <p:cNvPicPr/>
          <p:nvPr/>
        </p:nvPicPr>
        <p:blipFill>
          <a:blip r:embed="rId2"/>
          <a:stretch/>
        </p:blipFill>
        <p:spPr>
          <a:xfrm>
            <a:off x="7045200" y="6256440"/>
            <a:ext cx="2322720" cy="557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481520" y="6581520"/>
            <a:ext cx="2313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5B4BB-DE32-4416-A311-05CF62D3634B}" type="slidenum"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ooterSimple"/>
          <p:cNvSpPr/>
          <p:nvPr/>
        </p:nvSpPr>
        <p:spPr>
          <a:xfrm>
            <a:off x="469800" y="6700680"/>
            <a:ext cx="360" cy="1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" descr=""/>
          <p:cNvPicPr/>
          <p:nvPr/>
        </p:nvPicPr>
        <p:blipFill>
          <a:blip r:embed="rId2"/>
          <a:stretch/>
        </p:blipFill>
        <p:spPr>
          <a:xfrm>
            <a:off x="0" y="76320"/>
            <a:ext cx="3726000" cy="86652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3"/>
          <p:cNvSpPr/>
          <p:nvPr/>
        </p:nvSpPr>
        <p:spPr>
          <a:xfrm>
            <a:off x="0" y="5818320"/>
            <a:ext cx="9906120" cy="1039680"/>
          </a:xfrm>
          <a:prstGeom prst="rect">
            <a:avLst/>
          </a:prstGeom>
          <a:solidFill>
            <a:srgbClr val="ee1b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1480" y="47520"/>
            <a:ext cx="864720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95000" y="13939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ee1b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ee1b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ee1b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ee1b2e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ee1b2e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573120" y="1518840"/>
            <a:ext cx="89186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Presentation on Case Management  Project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2509920" y="2340000"/>
            <a:ext cx="6981840" cy="18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ee1b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Resource/ Service Mapp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ee1b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Baseline Stud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ee1b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Information Manag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85520" y="1676520"/>
            <a:ext cx="8651880" cy="7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-Win---Researcher"/>
            </a:endParaRPr>
          </a:p>
        </p:txBody>
      </p:sp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7560" y="529920"/>
            <a:ext cx="9234360" cy="33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ource/ Service Mapp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96440" y="1003320"/>
            <a:ext cx="8915400" cy="532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ts val="22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2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im: Establish the effective referral pathway of service provid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2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ee1b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o develop mapping of formal (GO) and informal (NGO) servi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ee1b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 establish referral pathways in 19 tow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ee1b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o ensure  the effective  and appropriate support for individual child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2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e1b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6880" y="115560"/>
            <a:ext cx="9777240" cy="60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ource/ Service Mapping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(38 services providers are tested on pilot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96440" y="1003320"/>
            <a:ext cx="8915400" cy="532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ts val="22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2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e1b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77920" y="981000"/>
          <a:ext cx="9428040" cy="5821560"/>
        </p:xfrm>
        <a:graphic>
          <a:graphicData uri="http://schemas.openxmlformats.org/drawingml/2006/table">
            <a:tbl>
              <a:tblPr/>
              <a:tblGrid>
                <a:gridCol w="3143160"/>
                <a:gridCol w="3141720"/>
                <a:gridCol w="3143160"/>
              </a:tblGrid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Pyay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Bagan Nyaung O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Kyauk Phyu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ae2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SW office will be expanded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ae2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MO partne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ae2ff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Dal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Magway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Myitkyin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Pathei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isting DSW offic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MO partne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424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Kyaing Ton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SW office will be expanded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KBWA partne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 Pha-A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 Sagain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 Dawei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 Loikaw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isting DSW offic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KBWA partne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 Lash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 Bamaw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 Min Da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SW office will be expanded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BCM partne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 Taungyi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 Bag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 Mandalay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 Mawlamyin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isting DSW office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BCM partne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</a:tbl>
          </a:graphicData>
        </a:graphic>
      </p:graphicFrame>
    </p:spTree>
  </p:cSld>
  <p:transition spd="slow">
    <p:wipe dir="r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7560" y="529920"/>
            <a:ext cx="9234360" cy="33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seline Stud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96440" y="1003320"/>
            <a:ext cx="8915400" cy="532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ts val="22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2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im: To gather the relevant baseline data for key indica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2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ee1b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analysis of the current child protection case management mechanism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its quality, strength and gap; level of capacity of case workers; community knowledge and practic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ee1b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vailability of service providers and referral pathw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ee1b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easuring the results and impact throughout and at the end of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2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ee1b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7560" y="529920"/>
            <a:ext cx="9234360" cy="33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seline Stud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96440" y="980640"/>
            <a:ext cx="8915400" cy="518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ff"/>
            </a:solidFill>
            <a:miter/>
          </a:ln>
        </p:spPr>
        <p:txBody>
          <a:bodyPr anchor="t">
            <a:normAutofit fontScale="85000"/>
          </a:bodyPr>
          <a:p>
            <a:pPr marL="291600" indent="-291600">
              <a:lnSpc>
                <a:spcPts val="22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ts val="22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ethodolog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50000"/>
              </a:lnSpc>
              <a:spcBef>
                <a:spcPts val="601"/>
              </a:spcBef>
              <a:buClr>
                <a:srgbClr val="ee1b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condary Data (Literature review with national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rnational policies, systems,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chanisms and infrastruct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50000"/>
              </a:lnSpc>
              <a:spcBef>
                <a:spcPts val="601"/>
              </a:spcBef>
              <a:buClr>
                <a:srgbClr val="ee1b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Quantitative Data (Survey will be conducted at 19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ownshi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50000"/>
              </a:lnSpc>
              <a:spcBef>
                <a:spcPts val="601"/>
              </a:spcBef>
              <a:buClr>
                <a:srgbClr val="ee1b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Qualitative Data (Use 7 FGD and 2 KII with DSW staff,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PG/CSG, CG, TCRC, Community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nformal service providers, Formal   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service provid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ts val="22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00"/>
              </a:spcBef>
              <a:buClr>
                <a:srgbClr val="ee1b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7560" y="529920"/>
            <a:ext cx="9234360" cy="33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formation Manage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96440" y="1003320"/>
            <a:ext cx="8915400" cy="532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ts val="22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ee1b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ablish the township and national level case management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ee1b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 the standard data collection form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ee1b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mote the referral pathway services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ee1b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cument the individual case records with confidenti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ee1b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management and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ee1b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on sharing and update on case management month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ee1b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2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ee1b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7560" y="612720"/>
            <a:ext cx="9234360" cy="2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96440" y="1003320"/>
            <a:ext cx="8915400" cy="532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ff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ts val="22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ts val="22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ts val="22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ts val="22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ts val="22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ts val="22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Thank You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ts val="22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ts val="22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rrow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39:11Z</dcterms:created>
  <dc:creator/>
  <dc:description>A4 Blank templ v1.pot</dc:description>
  <dc:language>en-US</dc:language>
  <cp:lastModifiedBy/>
  <dcterms:modified xsi:type="dcterms:W3CDTF">2014-10-22T10:15:03Z</dcterms:modified>
  <cp:revision>2105</cp:revision>
  <dc:subject/>
  <dc:title>Presentation Child Protection Initiative Business Pla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ntal_f_rger_inlaga">
    <vt:lpwstr/>
  </property>
  <property fmtid="{D5CDD505-2E9C-101B-9397-08002B2CF9AE}" pid="3" name="Antal_f_rger_omslag">
    <vt:lpwstr/>
  </property>
  <property fmtid="{D5CDD505-2E9C-101B-9397-08002B2CF9AE}" pid="4" name="Antal_sidor_inlaga">
    <vt:lpwstr/>
  </property>
  <property fmtid="{D5CDD505-2E9C-101B-9397-08002B2CF9AE}" pid="5" name="Antal_sidor_omslag">
    <vt:lpwstr/>
  </property>
  <property fmtid="{D5CDD505-2E9C-101B-9397-08002B2CF9AE}" pid="6" name="Assignment_project">
    <vt:lpwstr/>
  </property>
  <property fmtid="{D5CDD505-2E9C-101B-9397-08002B2CF9AE}" pid="7" name="BCG 2007 Template">
    <vt:bool>1</vt:bool>
  </property>
  <property fmtid="{D5CDD505-2E9C-101B-9397-08002B2CF9AE}" pid="8" name="BCG Format Name">
    <vt:lpwstr>BCG Format</vt:lpwstr>
  </property>
  <property fmtid="{D5CDD505-2E9C-101B-9397-08002B2CF9AE}" pid="9" name="Board_meeting_date">
    <vt:lpwstr>2009-08-19T00:00:00Z</vt:lpwstr>
  </property>
  <property fmtid="{D5CDD505-2E9C-101B-9397-08002B2CF9AE}" pid="10" name="Board_meeting_no">
    <vt:lpwstr/>
  </property>
  <property fmtid="{D5CDD505-2E9C-101B-9397-08002B2CF9AE}" pid="11" name="Creation_date">
    <vt:lpwstr>2009-08-19T00:00:00Z</vt:lpwstr>
  </property>
  <property fmtid="{D5CDD505-2E9C-101B-9397-08002B2CF9AE}" pid="12" name="Decision_no">
    <vt:lpwstr/>
  </property>
  <property fmtid="{D5CDD505-2E9C-101B-9397-08002B2CF9AE}" pid="13" name="Department_Unit">
    <vt:lpwstr/>
  </property>
  <property fmtid="{D5CDD505-2E9C-101B-9397-08002B2CF9AE}" pid="14" name="Description0">
    <vt:lpwstr>Presentation Child Protection Initiative Business Plan </vt:lpwstr>
  </property>
  <property fmtid="{D5CDD505-2E9C-101B-9397-08002B2CF9AE}" pid="15" name="Document_type">
    <vt:lpwstr/>
  </property>
  <property fmtid="{D5CDD505-2E9C-101B-9397-08002B2CF9AE}" pid="16" name="Dokumenttyp">
    <vt:lpwstr>Bok</vt:lpwstr>
  </property>
  <property fmtid="{D5CDD505-2E9C-101B-9397-08002B2CF9AE}" pid="17" name="E_Field_of_study">
    <vt:lpwstr>Bokslut</vt:lpwstr>
  </property>
  <property fmtid="{D5CDD505-2E9C-101B-9397-08002B2CF9AE}" pid="18" name="Efterbehandling">
    <vt:lpwstr/>
  </property>
  <property fmtid="{D5CDD505-2E9C-101B-9397-08002B2CF9AE}" pid="19" name="Field_of_study">
    <vt:lpwstr/>
  </property>
  <property fmtid="{D5CDD505-2E9C-101B-9397-08002B2CF9AE}" pid="20" name="Format">
    <vt:lpwstr/>
  </property>
  <property fmtid="{D5CDD505-2E9C-101B-9397-08002B2CF9AE}" pid="21" name="GS_Field_of_study">
    <vt:lpwstr>Alliansen</vt:lpwstr>
  </property>
  <property fmtid="{D5CDD505-2E9C-101B-9397-08002B2CF9AE}" pid="22" name="K_Field_of_study">
    <vt:lpwstr>Regelbundna givare</vt:lpwstr>
  </property>
  <property fmtid="{D5CDD505-2E9C-101B-9397-08002B2CF9AE}" pid="23" name="Language">
    <vt:lpwstr>Svenska/Swedish</vt:lpwstr>
  </property>
  <property fmtid="{D5CDD505-2E9C-101B-9397-08002B2CF9AE}" pid="24" name="P_Field_of_study">
    <vt:lpwstr>Arbetsmiljö</vt:lpwstr>
  </property>
  <property fmtid="{D5CDD505-2E9C-101B-9397-08002B2CF9AE}" pid="25" name="Papper_inlaga">
    <vt:lpwstr/>
  </property>
  <property fmtid="{D5CDD505-2E9C-101B-9397-08002B2CF9AE}" pid="26" name="Papper_omslag">
    <vt:lpwstr/>
  </property>
  <property fmtid="{D5CDD505-2E9C-101B-9397-08002B2CF9AE}" pid="27" name="Profil">
    <vt:lpwstr>Default</vt:lpwstr>
  </property>
  <property fmtid="{D5CDD505-2E9C-101B-9397-08002B2CF9AE}" pid="28" name="Programme_area_and_subject_area">
    <vt:lpwstr>1. Protection against violence - Working children</vt:lpwstr>
  </property>
  <property fmtid="{D5CDD505-2E9C-101B-9397-08002B2CF9AE}" pid="29" name="Project_no">
    <vt:lpwstr/>
  </property>
  <property fmtid="{D5CDD505-2E9C-101B-9397-08002B2CF9AE}" pid="30" name="PublishDate">
    <vt:lpwstr/>
  </property>
  <property fmtid="{D5CDD505-2E9C-101B-9397-08002B2CF9AE}" pid="31" name="Recipient">
    <vt:lpwstr/>
  </property>
  <property fmtid="{D5CDD505-2E9C-101B-9397-08002B2CF9AE}" pid="32" name="Reference">
    <vt:lpwstr>BCGTemplateNew</vt:lpwstr>
  </property>
  <property fmtid="{D5CDD505-2E9C-101B-9397-08002B2CF9AE}" pid="33" name="Region_Country">
    <vt:lpwstr>Sweden</vt:lpwstr>
  </property>
  <property fmtid="{D5CDD505-2E9C-101B-9397-08002B2CF9AE}" pid="34" name="Relation">
    <vt:lpwstr/>
  </property>
  <property fmtid="{D5CDD505-2E9C-101B-9397-08002B2CF9AE}" pid="35" name="Status">
    <vt:lpwstr>Created</vt:lpwstr>
  </property>
  <property fmtid="{D5CDD505-2E9C-101B-9397-08002B2CF9AE}" pid="36" name="Version">
    <vt:lpwstr>20041127</vt:lpwstr>
  </property>
  <property fmtid="{D5CDD505-2E9C-101B-9397-08002B2CF9AE}" pid="37" name="Working_methods">
    <vt:lpwstr>Direct support</vt:lpwstr>
  </property>
</Properties>
</file>