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002-D5D3-40C7-94E6-1F6B7331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AC6-3EA6-4711-814F-5B80F30A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1276-9227-44B0-8FE3-445E1E5A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C0A4-2FFE-4B94-99DC-3F5ABC51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9C36-C260-4DC9-89A3-195743C5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2755-4DD3-4EEE-9573-2B2C202C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C52F-3A65-485A-8CC8-0C4BED24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4EF9-9E68-4394-935D-35D39571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5104-96AB-4F4D-A482-4D28427E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2CDD-C793-48E3-9B08-F8C9017D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621D-A701-435E-9656-890E8847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2996-3882-4C68-87AC-D94501E1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914B-CD45-49CE-A11A-EEBEC919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491B-E8F3-4163-B665-3A0D4C88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5346-46AE-4CC5-BF2C-47068B79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8C9E-43E4-489D-A20C-192F7C96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A1DC-16DF-48D3-82E2-DEA2E51A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F6CDD-1530-4720-AF60-39F8443A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E497E-4D5C-4B6F-B19D-A40420D7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4D073-C637-424D-BB7B-C29AC09C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6F68C-5842-4157-90A4-1FE0CDA0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6B556-6A27-4B0F-A9EE-9DD5BB12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CC89-B72E-47EF-91E1-7AEE5416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E6E4C-A2EB-40B2-B5B5-F8EC9712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CA976-08B2-4FCC-A889-946C43D9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D3D0B-E397-4B31-BB45-490E591F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3DB63-63CB-4D41-AB5C-01DD9281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ACEBF-C72D-498E-8CA7-327D868D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826E3-AF57-4CD6-995D-72B1695A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DAE94-FDFB-4E90-B3AA-47080A55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B761E-3399-4187-9E3C-7B4808C0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7005C-3126-449E-BA45-1D4D9BD9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C1AD5-A3CC-4D64-B010-6C0D5F17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064-7D27-4468-8961-0C49F2C4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2AA74-83DA-495C-8576-83B73D02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227F7-EAE1-4780-AD75-58695811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8A9B2-E7C4-4F57-8D04-4739DA1D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A7350-18A2-4F66-AEE4-C5D872F5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D67BF-A5EF-415A-B1D7-2A1874D4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1906F-F772-4A29-81B3-EC08B220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7B735-9E35-43DC-BBF8-C279A0BA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A588F-C486-4D5B-85D1-1096478B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6B59E-988D-41AB-A69F-1F82A1F0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468A9-67C6-432C-BC93-D6AAB241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9871-6BAE-4CFC-8DB2-BBEA72FC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037D0-FCCA-44A1-9268-BB6E2330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F2503-6BD3-4156-8C92-5C79EA45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3D6E8-EA4E-43F2-B408-7DD8DC3F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2CA1B-EADE-4EAC-B8FF-BE4814D1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5A70F-DE03-4BEA-926E-BC813453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8E5E0-BA5E-47BB-98C7-CAF9C8EE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41260-1AD1-4241-9988-24E30DE6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5CCC5-986F-4816-864B-9382FDAB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80149-2D9E-4E3D-A82C-B8984C96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1DB39-486E-4FAB-B461-AFF32FD1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313B-6F91-4A4F-88CB-6F5D5590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692A4-05ED-4483-B5CE-077978F1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34240-1D3E-435B-A0A8-4082E1DC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ABCF9-7320-4518-A9B9-E223862B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B1B5B-AE96-4269-8155-0B09E957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FADFD-EE58-436D-9BCE-D089781F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1649F-9564-409F-BC91-79233F99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67E5D-E72D-46DC-BA7F-85CEE0B8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5BBA1-237D-434B-AC0F-A7E14D3C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D48CD-F885-4907-BD4D-E4AFBF41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95484-064E-4533-98A6-C5D22BF3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D6E5-B2D8-4E1C-9B2A-431C25C3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A9ADC-5183-439C-8449-5FB42491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B2293-FD6F-454D-844C-93CCE066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9C5C3-2B1A-468A-A44E-646B2C15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C5A28-8089-41EA-894A-E04E132C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C0124-0E3D-4688-988B-8830DE6F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BD1B2-FE94-45D5-99A8-2B3D7FA3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9134C-EDDF-4E58-81D4-5C2FBC6A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25C2F-2115-49B2-A6D2-015D94C1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E16EC-295B-480F-8AA1-3DEFDAC4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B184A-4547-40DC-A86D-3CC7FC0C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C4C-5D2F-47CA-B876-87E9E27E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CF5AB-BB64-406D-AB91-AADD411C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112B9-E7CA-4935-992C-DA8C2F27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BBACA-6103-4843-B799-72B6D944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5AFAD-B5B1-45E3-856C-4D071169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FD0B7-E84C-4E83-84E4-3885796C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3D4-DE3C-43ED-944D-E128FCF1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nstantia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D750-04B0-4FFB-BA91-87F082070AE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nstantia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E01D-8C2D-4307-8007-1896551B5D7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nstantia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09FB-CE6A-46F6-B8EB-3379708065D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nstantia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F5B6-3FCA-4A9F-BE4C-F810FA09C20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nstantia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B265-089F-4438-8ED7-75988F45EB6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nstantia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31B7-BE66-4FD5-9F4B-42AC1748924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nstantia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AD28-E68C-4D41-8908-364B2E34612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8960" y="2514240"/>
            <a:ext cx="740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mic"/>
              </a:rPr>
              <a:t>Mon National Education Committee</a:t>
            </a:r>
            <a:r>
              <a:rPr b="0" lang="en-US" sz="5400" spc="-1" strike="noStrike">
                <a:solidFill>
                  <a:srgbClr val="572314"/>
                </a:solidFill>
                <a:latin typeface="A1Mon"/>
              </a:rPr>
              <a:t>  </a:t>
            </a:r>
            <a:br>
              <a:rPr sz="5400"/>
            </a:br>
            <a:r>
              <a:rPr b="0" lang="en-US" sz="4300" spc="-1" strike="noStrike">
                <a:solidFill>
                  <a:srgbClr val="572314"/>
                </a:solidFill>
                <a:latin typeface="Castellar"/>
              </a:rPr>
              <a:t>18</a:t>
            </a:r>
            <a:r>
              <a:rPr b="0" lang="en-US" sz="5400" spc="-1" strike="noStrike">
                <a:solidFill>
                  <a:srgbClr val="572314"/>
                </a:solidFill>
                <a:latin typeface="Castellar"/>
              </a:rPr>
              <a:t> </a:t>
            </a:r>
            <a:r>
              <a:rPr b="0" lang="en-US" sz="3900" spc="-1" strike="noStrike">
                <a:solidFill>
                  <a:srgbClr val="572314"/>
                </a:solidFill>
                <a:latin typeface="comic"/>
              </a:rPr>
              <a:t>September-  2014</a:t>
            </a:r>
            <a:endParaRPr b="0" lang="en-US" sz="3900" spc="-1" strike="noStrike">
              <a:solidFill>
                <a:srgbClr val="572314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comic"/>
              </a:rPr>
              <a:t>strength points</a:t>
            </a: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# of  High School graduated  - 334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# of student (Further study )  - (14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ome, working as teacher, community health worker, development, education, youth grou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hildren have opportunity to learn mother tongue based education system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Keep developing and maintain cultural and literature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arents and stakeholders participate in educa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hildren are happy at school by using CCA method and increase enrollment rate/decrease drop out rate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tudents could transfer to government schools and sit matriculation exam at Gov school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mic"/>
              </a:rPr>
              <a:t>Weakness</a:t>
            </a: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able to maintain qualified teacher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 of teacher recruitment to all schoo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ducation fund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chool building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nstantia"/>
              </a:rPr>
              <a:t>Thank </a:t>
            </a:r>
            <a:endParaRPr b="0" lang="en-US" sz="96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828440"/>
            <a:ext cx="749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nstantia"/>
              </a:rPr>
              <a:t>you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comic"/>
              </a:rPr>
              <a:t>What is  </a:t>
            </a:r>
            <a:r>
              <a:rPr b="0" lang="en-US" sz="4300" spc="-1" strike="noStrike">
                <a:solidFill>
                  <a:srgbClr val="572314"/>
                </a:solidFill>
                <a:latin typeface="comic"/>
              </a:rPr>
              <a:t>Mnec</a:t>
            </a:r>
            <a:r>
              <a:rPr b="0" lang="en-US" sz="2800" spc="-1" strike="noStrike">
                <a:solidFill>
                  <a:srgbClr val="572314"/>
                </a:solidFill>
                <a:latin typeface="comic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mplementing education program thru mother tongue base multilingual education syste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nstantia"/>
              </a:rPr>
              <a:t>BACKGROUND</a:t>
            </a: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The NMSP formed a Central Education Department (CED) in 1972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1992, the MNEC has supported CED in carrying out the education program. This program has increased steadily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One Mon High School was opened in a Mon refugee camp in Thailand. Then, another two high schools were opened in succession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So there are 3 high schools were at the beginning of 2002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nstantia"/>
              </a:rPr>
              <a:t>AIM</a:t>
            </a: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o help all children get quality Mon national education by creating conducive learning environment on community-based self-help basis or other approaches that will help children develop holisticall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nstantia"/>
              </a:rPr>
              <a:t>OBJECTIVES</a:t>
            </a: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create opportunity for all Mon people to have access to quality basic educ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cultivate good Mon ladies and gentle men, well equipped with five strengths- physically, mentally, morally, socially and economicall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bring up good citizens with a strong sense of patriotic spirit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train good and intelligent human resources required for modernized countr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develop unity among Mon people and attitude to live peacefully with people from other ethnic group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cultivate in Mon people love of one’s language, culture and traditional customs and maintain the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train people agriculture based industrial educ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train people in art and science fields to become contributors for the countr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train people love of the environment and protect and maintain 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nstantia"/>
              </a:rPr>
              <a:t>ACTIVITIES</a:t>
            </a: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Education Policy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Formal education and student Hostel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Teacher Stipend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Text Book Printing and Distribution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School supply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Capacity Building for teacher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Curriculum Development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Mon Post ten School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English Upgrading Training for youth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Education Management Information System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Fund raising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Monitoring and Evaluation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499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nstantia"/>
              </a:rPr>
              <a:t>Mon National School and Mixed Schools </a:t>
            </a:r>
            <a:endParaRPr b="0" lang="en-US" sz="39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42 Mon National School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07 mixed school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One Mon Post-ten School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800 Teacher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30,727 student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comic"/>
              </a:rPr>
              <a:t>Mixed School</a:t>
            </a: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107) Mixed Schools –Gov administrative school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eaching Mon languages and Mon History at Government primary, post primary and middl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1Mo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o Mixed School in Mudon and Thanphyuzayat Township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comic"/>
              </a:rPr>
              <a:t>Mon education  system</a:t>
            </a:r>
            <a:endParaRPr b="0" lang="en-US" sz="4300" spc="-1" strike="noStrike">
              <a:solidFill>
                <a:srgbClr val="572314"/>
              </a:solidFill>
              <a:latin typeface="Constanti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Primary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- Mother tongue based curriculum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and add Burmese, Science and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English Subjects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Middle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- Mon , Mon History, and integrated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Government Curriculum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High School - Government Curriculum</a:t>
            </a:r>
            <a:r>
              <a:rPr b="0" lang="en-US" sz="2700" spc="-1" strike="noStrike">
                <a:solidFill>
                  <a:srgbClr val="000000"/>
                </a:solidFill>
                <a:latin typeface="A1Mo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1Mon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Post Ten – First Year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-Elementary &amp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Pre-Intermediate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Year</a:t>
            </a:r>
            <a:r>
              <a:rPr b="0" lang="en-US" sz="2700" spc="-1" strike="noStrike">
                <a:solidFill>
                  <a:srgbClr val="000000"/>
                </a:solidFill>
                <a:latin typeface="A1Mon"/>
              </a:rPr>
              <a:t> ø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Pre-intermediate-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                        Upper Intermediate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4T07:39:38Z</dcterms:created>
  <dc:creator>Htaw Rot</dc:creator>
  <dc:description/>
  <dc:language>en-US</dc:language>
  <cp:lastModifiedBy>Htaw Rot</cp:lastModifiedBy>
  <dcterms:modified xsi:type="dcterms:W3CDTF">2014-09-16T07:42:37Z</dcterms:modified>
  <cp:revision>46</cp:revision>
  <dc:subject/>
  <dc:title>Mon National Education Committee   18 September-  2014</dc:title>
</cp:coreProperties>
</file>