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496-2C9C-47CE-B357-3B4AFE88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CBA-C7E8-409B-9F41-44A910C0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C30-8C09-44A4-81C1-ED48AFAA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56A-8B1B-4215-9631-7DF70924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ECB-6F6A-45F3-90ED-9A556C21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7F8-E425-4856-9C31-734C64A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7E9-20F8-47BA-9455-C1304C65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D0F-6A88-466D-A05E-6A8FF2CF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7B76-30E5-4633-84EF-60A63BBC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42DD-41F3-4DE1-B683-9632E44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5E26-533E-4906-8286-946B762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469-86AB-4D9F-B7E6-C01F252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054-42DD-4EE0-A6D5-BAAF9EF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5FE4-4668-4D3F-A299-63E03D9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75B-147C-41BA-920F-B9549C50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DBB-4FBF-4FD8-95E5-EB707C50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620-D85A-40B4-BDD9-0D584DAB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55E-2381-4A93-AAB2-1F12BDE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78F-290A-4EAB-9D1B-71EE0407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F01-7974-411B-AB0A-40637C96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048-2AB7-4079-95BA-8D6A524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D3D-1B55-4A46-8AD0-C37FF2D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2F7-6FF3-4A21-AE1C-8C001D7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F56-BA13-4856-AF68-2FE9023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458-C292-4AC5-91B7-114DAD0D3E5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821-C4FB-4532-9C18-CA1A6CA8BFE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Harmonising training approaches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5049720"/>
        </p:xfrm>
        <a:graphic>
          <a:graphicData uri="http://schemas.openxmlformats.org/drawingml/2006/table">
            <a:tbl>
              <a:tblPr/>
              <a:tblGrid>
                <a:gridCol w="1731960"/>
                <a:gridCol w="1846440"/>
                <a:gridCol w="1909440"/>
                <a:gridCol w="1590840"/>
                <a:gridCol w="1150920"/>
              </a:tblGrid>
              <a:tr h="46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days for training new CHW (govt standard 21, please specify additional day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day curriculum; includes 21 days TMO, plus 5 days at RHC and 2 days on reporting and drug 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theoric days MoH, 3 days field training in RHC, 7 additional days 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ics covered outside of govt CHW curricul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community management of pneumonia, diarrhea, skin diseases, health education and behavior change, reporting, drug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s/Danger signs/referral, sensible use of medicines, health education/communication skills, reporting, use of medical kit, NGO guid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al mobilization, PSS, Malaria, First Aid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does the CHW training / how does the NGO support MoH trai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team consists of TMO and his team, plus 1 or 2 trainers from NGO. NGO provides training materials, case studies, checklists, pre and post tests, role play, participatory methods and training schedu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H trainers, NGO trainers, Guest trainers (MRCS, Unicef...) MoH trainers are supported with per di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wnship and basic health staff / NGO provides financial support training materials and equipment and facilit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of participations per training session (min - max, ex 31 - 13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to 25 participants per training se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 52 trainees (realized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36 trainees (planned january 20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29600" cy="4645080"/>
        </p:xfrm>
        <a:graphic>
          <a:graphicData uri="http://schemas.openxmlformats.org/drawingml/2006/table">
            <a:tbl>
              <a:tblPr/>
              <a:tblGrid>
                <a:gridCol w="1731960"/>
                <a:gridCol w="1846440"/>
                <a:gridCol w="1909440"/>
                <a:gridCol w="1590840"/>
                <a:gridCol w="1150920"/>
              </a:tblGrid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RESHER TRAI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days for CHW refreshe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days: 3 days MoH, 4 days 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day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 of CHW refreshe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Additional training" more than refresher training- conducted every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ry 6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times/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ics covered during CHW refreshe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R and early warning, psychosocial support, side effect of drugs, danger signs and referral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ends on feedbacks from supervision activities and discussions with CHW and M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C/Environmental sanitation/Nutrition/disease transmission/Psychosocial support/mal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able diseases, Enviromental sanitation, Family Health, Health education, First Aids treat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does the refreher training / how does the NGO support MoH trai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 as initial training - see abov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h trainers and NGO trainers. NGO gives daily per diem to MoH trai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wnship and basic health staff / NGO provides financial support, training materials &amp; equipment and facilit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H staffs (TMO, HA, M.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2014560"/>
                <a:gridCol w="2146320"/>
                <a:gridCol w="2219400"/>
                <a:gridCol w="1849320"/>
              </a:tblGrid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UPER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 and duration of CHW supervision sessions in the villages (ex: monthly for 12 months after trai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ly for 18 months (possibly reduce subsequently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wice a month the first six month following initial training, then once a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ly the first year, following years 1/Q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o does the field supervi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 medical staff  (nurse, HA, or doc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 field n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 field staffs and midwi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 NGO supporting CHW to attend RHC monthly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ation and meal allowance - 3,000MMK per day, plus for midwife of sub cen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with lunch per diem (2000 MMK), transportation allowance (3000 MMK), non working allowance (2000 MMK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 gives additional training by NGO trainers to CHW at RHC mee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, providing meal and transporting costs to CHWs and meal, transportation and perdiem (4000 kyat) to B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ing formats - govt or NGO. frequency of reporting requirements. If possible attach reporting formats u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 format; monthly report (available upon request)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H: monthly report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: consultation format, HE sessions realized, drug consumption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re are both types of format: govt and NG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Family Network meetings quarterly at RHC, attending BHS from S/RH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 provides transport and meals to CHWs and B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4920" y="304920"/>
          <a:ext cx="8534160" cy="5790960"/>
        </p:xfrm>
        <a:graphic>
          <a:graphicData uri="http://schemas.openxmlformats.org/drawingml/2006/table">
            <a:tbl>
              <a:tblPr/>
              <a:tblGrid>
                <a:gridCol w="1600200"/>
                <a:gridCol w="1752480"/>
                <a:gridCol w="2514600"/>
                <a:gridCol w="1523880"/>
                <a:gridCol w="1143000"/>
              </a:tblGrid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costs for initial CHW training - participant (for what, amount; ex food, 1000 MMK / da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value 3,000 MMK/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 4000 MMK/da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working allowance 2000 MMK/da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ation allowance 6000 MMK X 2 (way and way bac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-3500 MMK, Transportation-5000,Perdiem- 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costs for initial CHW training - trainer (for what, amou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value 8,000 MMK/d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H trainers' per diem 4500 MMK/half day 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ends for guest trainer, MRCS: 5000 MMK/day, Unicef trainer: accomodation and lunch if they n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-3500 MMK, Trainer fees- 8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costs covered by NGO during initial CHW training (eg room, electricity, extra trainer, stationa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mmodation, +/-training room, generator fuel, transport cost for trainees, opening and closing ceremony, stationary, curriculum , certif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in Township Hospital, small particpation for the room (10 000 MMK/NGO training days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modation of trainees in monastery (donation depends on nb of days and nb of trainees, average 500/trainee/night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covered by NGO (generator and fioul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ionary for trainees (notebooks, pen, folders)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material (white board, projector, flipchart paper, MoH guidelines, other documentation, photocopies..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modation-100 000/training session, Disels for generator- 20,000/day, training materials-3000/person, equipments-100000/session, printing of manuals- 5000/person, water usage-30000-50000/se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0 MMK for lunch and 2 tea 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457200"/>
          <a:ext cx="8229600" cy="5607000"/>
        </p:xfrm>
        <a:graphic>
          <a:graphicData uri="http://schemas.openxmlformats.org/drawingml/2006/table">
            <a:tbl>
              <a:tblPr/>
              <a:tblGrid>
                <a:gridCol w="1731960"/>
                <a:gridCol w="1846440"/>
                <a:gridCol w="1679400"/>
                <a:gridCol w="1820880"/>
                <a:gridCol w="1150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costs for refresher CHW training - participant (for what, amount; ex food, 1000 MMK / da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value 3,000 MMK/d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 than initial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-3500 MMK, Transportation-5000,Perdiem- 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 MMK for Master trainers and 5,000 MMK for Co-trai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costs for refresher CHW training - trainer (for what, amou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value 8,000 MMK/d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 than initial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od-3500 MMK, Trainer fees- 5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0 MMK for whole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costs covered by NGO during refresher CHW training (eg room, electricity, extra trainer, stationa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mmodation, +/-training room,  generator fuel, transport cost for trainees, opening and closing ceremony, stationary, curriculum , certif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 than initial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modation-50,000/training session, Disels for generator- 20,000/day, training materials-3000/person, equipments-100,000/session, printing of manuals- 5,000/person, water usage-30,000-50,000/se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s provided outside of standard CHW k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CWH kit (list available upon reques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io for early warning, equipment/visibility items (umbrella, bag, rain coat, key chain…), reporting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W bag, life jacket, adults scale, hat, child scale, torch, whisel, registr/reportingtion books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CHW kit provi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provided l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 770 MMK (all included) see 2nd worksh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ximately 1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4529880"/>
        </p:xfrm>
        <a:graphic>
          <a:graphicData uri="http://schemas.openxmlformats.org/drawingml/2006/table">
            <a:tbl>
              <a:tblPr/>
              <a:tblGrid>
                <a:gridCol w="2013840"/>
                <a:gridCol w="2146320"/>
                <a:gridCol w="2220480"/>
                <a:gridCol w="1848960"/>
              </a:tblGrid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C Monthly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0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provided for RHC monthly meeting? (yes/n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for CHW/AMW meeting in sub cen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provided (travel cost, refreshment, in kind donation, trai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vel costs and lu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H staff : lunch per diem 2000 MMK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W: 7000 MMK see B22 for details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to CHW by NGO trai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ation cost, meals and refreshments, perdiem for BHS, IEC materials ( pamphlets/flip char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cost provided per particip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value approxaimtely 3,000 MMK per participant/total value 5,000 MMK for midwife or 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 kyats/particip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support cost per RHC per mee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value 150,000 MMK for 40 CH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 000 MMK but depends on number of CHW and MoH per RH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,000Ky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2:58:49Z</dcterms:created>
  <dc:creator>pduigan</dc:creator>
  <dc:description/>
  <dc:language>en-US</dc:language>
  <cp:lastModifiedBy>pduigan</cp:lastModifiedBy>
  <dcterms:modified xsi:type="dcterms:W3CDTF">2009-11-20T11:04:32Z</dcterms:modified>
  <cp:revision>1</cp:revision>
  <dc:subject/>
  <dc:title>Harmonising training approaches </dc:title>
</cp:coreProperties>
</file>