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963-B369-4B0D-8C2B-74CC367A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E8BC-7C55-44FF-9554-5DE351A7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8A6-0DE2-40C8-9E86-F46DE2F3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3B3-CABB-430D-B0E2-EAFF9DF4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CD38E-4D01-4E72-96E8-FE216131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C6058-3792-46EF-9518-B434FD5A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79250-4430-466A-8D10-2EAA42A7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7135C-40EF-4D7A-BEC1-4B049317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1E908-A654-413C-83E7-71BF18E2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32FAA-2057-43C0-B2A9-82BC7AB8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A8BCA-FD65-4E0B-BA66-0907DA27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F4DD-7915-415E-B661-5207EDB1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CDE23-DE50-4594-82FC-261661D8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AA4A6-E61E-4A03-A6FE-501614D4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7D1A2-58B2-4EA9-BE7C-845A8659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D723F-D910-46E6-97C1-5E8CA077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97118-5274-4A83-8159-E6EE5EBB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03D-40E6-4526-81C5-09C1C4EA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D3A-CAC3-44DE-BD56-802EA0E5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011-6E1A-4F73-9E22-ED2CBFBF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9DD-BC98-4E52-96D4-9D131A7F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F5A-D259-4E8F-8E66-10FAAB77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9F6-4D01-4499-8712-4FE21A81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91D-E73C-4F08-9829-975182AD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7F9C-9E96-47E7-9C71-EC57D0A6B3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52DE-D26E-4913-BD7A-829B11B620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volution of CHW Train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800600" y="502884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ding Agen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C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s and Time Allotmen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 Each Top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r.no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Content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Time(h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Organization set up and duties and responsibilities                  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1) Health polic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2) Health Concep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3) People’s Health P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4) Organization set up of MO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5) Duties and responsibilities of BH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6) Duties and responsibilities of CH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7) Community particip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Health Educ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Environmental Sanit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veillance and Control of Communicable Disea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20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r.no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Content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Time(h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First ai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4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Treatment of minor illness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Family Health Car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Nutrition promotion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. Collection of vital statistics and health statistic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8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. Reports, records and diari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1. Basic traditional medici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. Assessment ( 3 hrs/wk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12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3. Opening &amp; Clos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       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tal           16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jor revision for CHW Manual was done in 1998 with a lot of updating and addition of new topic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ew top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STDs, HIV/AID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AR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Essential drugs, CCS &amp; replenishm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Vitamin A deficiency &amp; Iron deficiency anaemi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Birth spacing &amp; role of CHW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 Functions of Village Health Committe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73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ahoma"/>
              </a:rPr>
              <a:t>Revised Topic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laria, T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Leprosy, Trachoma, Plague &amp; othe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Nutrition, malnutrition &amp; Iodine deficiency ( Goiter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Vital Statistics ( Recording, reporting &amp; utilization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Report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 Discussion for Environmental Sanit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Discussion for treatment of minor illness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. Locally important health problem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ning Manual for CH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Edition – 1977/197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th Edition _ 2008/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raining center _ DOH Fac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rainers _ DOH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raining Period is (28+2 ) d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Revised selection Criteria for CH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Addition, updating and revision of top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sed Selection Criteria (2009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manent resident of the villag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Male or female age between 18 to 50ye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Prefer post primary education and if not available must have primary educ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t have good health and good charact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t be selected by community and approved by village counc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llingness to provide voluntary services to local community (free of charge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serve as a volunteer within the community for a minimum of  ‘3’yea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Manual (200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topics added  are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aster Prevention, Preparedness &amp; Mana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- communicable Diseases Eg, CVD, Diabe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tal health (Psychosocial suppor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ditional medicine including treatment of minor illness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orting formats and referral form for CH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dated and revised on 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mmunicable Dise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e definition and funeral management for chol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tion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break mana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Mala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dure for RD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ideline for Coartem treat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eps for impregnation of bed n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on of Community Health Worker (CHW) and Volunt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ty Health Workers (CHWs) are well-established members of a community with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 commitment to the people and place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make up the communit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volunteer is described as an individual </a:t>
            </a:r>
            <a:r>
              <a:rPr b="0" i="1" lang="en-US" sz="2400" spc="-1" strike="noStrike">
                <a:solidFill>
                  <a:srgbClr val="d60093"/>
                </a:solidFill>
                <a:latin typeface="Tahoma"/>
              </a:rPr>
              <a:t>who chooses with his own free will to engage in specified, unpaid activities within an organization for the mutual benefit of the community, themselves and the organiz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New Emerging Dise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ian influen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Vaccine Preventable Dise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patitis B Vacc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asles vaccination (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ose at 18 mth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EF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P surveill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Environmental Sani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 hygiene and hand was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 hygi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al heal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Maternal and child heal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natal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 1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5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chool heal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 promoting scho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 for out of school childr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Nutr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1 defici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llage food bank and CN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Vital statis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ortance of B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Health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lem solving appro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ty particip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ous type of Volunte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unity Health Workers (CHW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xiliary Midwives (AM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 households workers (THH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xiliary Nurse Midwives (ANMW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ty support group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CH (RH) promote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ty- owned resource pers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ty based Health Promo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CHV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reach the un-reach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catalyze community health ac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facilitate community particip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a remedy for the acute shortage of health workforce in the reg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ing service util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inciples of PHC remain still val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ed to strengthen Health Systems using PHC approach has been recogn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ed to strengthen Health Workforce as a system constrain has been highlighted globally and regionally: WHR 2006, RC Resolutions, Dhaka Declaration, Regional HWS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ed to develop a sustainable community based health workforce has arisen as never befo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al Persons and Contact Nu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Thuzar Chit Tin_067 41139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Nang Naing Naing Shein_067 41139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Ye Ye Cho _067 4113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Education is the most powerful weapon which you can use to change the world</a:t>
            </a: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.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       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-Nelson Mand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kground of CHW in Myanm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anmar adopted Primary Health Care (PHC) approach and VHW scheme started as part of efforts to strengthen and improve health services utilization and health status of underserved rural communi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ary function of CHW is preventive and promotive giving weight to first aid and treatment of minor ailments, referral and disseminating health messa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nce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HP in 1978, CHWs were trained to provide primary health care services in the rural areas where there was no health personnel/facilit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ining manual and curriculum were developed and produced by Public Health Division (Primary Health Care and Basic Health project), DO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21) days training was conducted in Township Health Departmen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O supported training expenses and daily allowance of trainees (15 ks/day &amp; 315 ks/mth).  DOH and UNICEF supported the essential drugs and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id kit to CHW. (The cost of kit was about 1,500 kyat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ction Criteria for CH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ident of the vill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 between 18 to 60 and must be health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able to read and wri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good character and selected by village counci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provide health care services to village people  free of char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ties of CH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practice and educate the community about personal hygiene, environmental sanitation and good healthy habi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perform the public health activities under the technical guidance and supervision of BH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perform the activities under the leadership and guidance of village counci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s of CH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vention and control of communicable dise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vironmental sani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 aid and treatment of minor illn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orting of principal epidemic dise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I activ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mily health care and nutrition promotion activ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ection of vital statistics and health statis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er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tion in village development activi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curriculum and manua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b description of CH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nowledge, attitude, practice and ski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ining objec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ent ident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ication of teaching learning materials, methods and 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ting time for each subject are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ting evaluation criteria and metho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ning Sche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ining duration – 1 mon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ining site      – Township Health Department (or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SH/RHC assigned by TH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inees            – maximum 30 CH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ining hours   – 8 hours/day (1hr/perio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ining days    – 21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tal training hours – 168 h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9:18:53Z</dcterms:created>
  <dc:creator>*</dc:creator>
  <dc:description/>
  <dc:language>en-US</dc:language>
  <cp:lastModifiedBy>Administrator</cp:lastModifiedBy>
  <dcterms:modified xsi:type="dcterms:W3CDTF">2009-01-26T09:39:39Z</dcterms:modified>
  <cp:revision>32</cp:revision>
  <dc:subject/>
  <dc:title>Evolution of Training manual and Training Curriculum for Community Health Workers</dc:title>
</cp:coreProperties>
</file>